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D76-B26E-4F27-81E9-2CCDEB85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428-CD60-40E2-9EF6-3AD01F35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269B-F930-45C8-B01D-49BAD612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3611-6E65-45CD-9B2F-E750885A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A3E-0547-4D56-AC46-8318BFC1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ED3-4F14-4376-905B-D3FE627C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835-B02A-4730-9783-E3C07A22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BB99-BF5C-4B55-B58E-49979646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81C-7057-4A19-85B2-73EAD3D9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0A9-307D-4C3C-A898-D98112ED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CAF-93CB-4107-906B-F4700A94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51F-7315-4FFF-BF84-2EFEBEB5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2DEF-6721-4854-9D55-F1F37EAB9E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КТИЧЕСКАЯ РАБОТА № 4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«ПРИГОТОВЛЕНИЕ РАСТВОРА С ОПРЕДЕЛЕННОЙ МАССОВОЙ ДОЛЕЙ РАСТВОРЕННОГО ВЕЩЕСТВА»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360" y="4076640"/>
            <a:ext cx="503568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ТЕХНИКА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Проводить опыт с необходимым количеством веще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Строго соблюдать меры предосторож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Вещества брать сухой лож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Знать последовательность дей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Не загромождать рабочее мест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Проводить опыты в чистой посу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Бережно обращаться с лабораторным оборудован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19640" y="4437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ПРАКТИЧЕСКАЯ РАБОТА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«Приготовление раствора с определенной массовой долей растворенного вещест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9280" y="3141720"/>
          <a:ext cx="8785440" cy="2663640"/>
        </p:xfrm>
        <a:graphic>
          <a:graphicData uri="http://schemas.openxmlformats.org/drawingml/2006/table">
            <a:tbl>
              <a:tblPr/>
              <a:tblGrid>
                <a:gridCol w="2303640"/>
                <a:gridCol w="2448000"/>
                <a:gridCol w="4033800"/>
              </a:tblGrid>
              <a:tr h="12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Оборудование и реактив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Методика приготовления раство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асчеты и выв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48000" y="1203840"/>
            <a:ext cx="554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1. Отмерьте мерным цилинд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50 мл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дистиллированной в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и влейте ее в коническую кол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емкостью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100 мл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. Сахар взвесьте на лабораторных весах, затем поместите их в колбу с водой и перемешивайте стеклянной палочкой до полного растворения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352600" cy="357336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48000" y="1153440"/>
            <a:ext cx="554508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3. Рассчитайте массовую долю сахара в раство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еобходимые данные у вас есть: масса сахара, объем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лотность воды примите равно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г/мл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улы для расчета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ω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сах) = m(сах)/m(р-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m(р-ра) = m(сах) + m(H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m(H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O) = V(H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O) • (H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O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2352600" cy="357336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108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9640" y="1700280"/>
          <a:ext cx="8229600" cy="3165480"/>
        </p:xfrm>
        <a:graphic>
          <a:graphicData uri="http://schemas.openxmlformats.org/drawingml/2006/table">
            <a:tbl>
              <a:tblPr/>
              <a:tblGrid>
                <a:gridCol w="4032360"/>
                <a:gridCol w="4197240"/>
              </a:tblGrid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олярная масса М вещества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равна сумме атомных масс элементов в формуле, а размер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[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] – г/моль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.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ассчитайте молярную массу сахара, если известно, что </a:t>
                      </a: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ахароза имеет формул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39640" y="1700280"/>
          <a:ext cx="8280360" cy="2925720"/>
        </p:xfrm>
        <a:graphic>
          <a:graphicData uri="http://schemas.openxmlformats.org/drawingml/2006/table">
            <a:tbl>
              <a:tblPr/>
              <a:tblGrid>
                <a:gridCol w="3024360"/>
                <a:gridCol w="5256000"/>
              </a:tblGrid>
              <a:tr h="292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Число Авогадро</a:t>
                      </a:r>
                      <a:br>
                        <a:rPr sz="2800"/>
                      </a:b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= 6,02•10</a:t>
                      </a:r>
                      <a:r>
                        <a:rPr b="1" lang="en-US" sz="2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молекул/моль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. Рассчитайте, сколько молекул сахара содержится в полученном растворе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iner Hand ITC"/>
                        </a:rPr>
                        <a:t>v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сах) = 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сах) / 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сах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молекул сах.) = 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•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iner Hand ITC"/>
                        </a:rPr>
                        <a:t>v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сах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ПРАКТИЧЕСКАЯ РАБОТА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«Приготовление раствора с определенной массовой долей растворенного вещест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9280" y="3141720"/>
          <a:ext cx="8785440" cy="2663640"/>
        </p:xfrm>
        <a:graphic>
          <a:graphicData uri="http://schemas.openxmlformats.org/drawingml/2006/table">
            <a:tbl>
              <a:tblPr/>
              <a:tblGrid>
                <a:gridCol w="2303640"/>
                <a:gridCol w="2448000"/>
                <a:gridCol w="4033800"/>
              </a:tblGrid>
              <a:tr h="12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Оборудование и реактив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Методика приготовления раство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асчеты и выв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6:45:34Z</dcterms:created>
  <dc:creator>User</dc:creator>
  <dc:description/>
  <dc:language>en-US</dc:language>
  <cp:lastModifiedBy>User</cp:lastModifiedBy>
  <dcterms:modified xsi:type="dcterms:W3CDTF">2009-08-15T06:46:17Z</dcterms:modified>
  <cp:revision>5</cp:revision>
  <dc:subject/>
  <dc:title>ПРАКТИЧЕСКАЯ РАБОТА № 4     «ПРИГОТОВЛЕНИЕ РАСТВОРА С ОПРЕДЕЛЕННОЙ МАССОВОЙ ДОЛЕЙ РАСТВОРЕННОГО ВЕЩЕСТВА»    8 класс</dc:title>
</cp:coreProperties>
</file>